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66BF-C2C5-45FC-86F3-4D3D46E08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6883-CC18-4240-8FC9-8A6153AD8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42DC-9311-4AB4-B689-F319F9121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B3CC-9F87-49C1-95B8-986B6B06C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5B53-6B90-481E-B575-83EBF24B5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1125-4137-4EEC-89B4-83A283D3C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2456-E891-44DB-B516-6DBD8A397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3026-AB3C-48D5-8D46-D6CC0DAC6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07ED-2CE1-4935-842E-5EBCBCEB3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E44F-080A-491F-8A2D-127314AEF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140D-CC73-43D5-9C79-49343DC4C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1D24-1F9C-4A48-9416-88872EECA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6AF2A-036A-40F5-B2F8-3E8F1CD2DE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gration of Farming System components Gro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igh potential, high market ac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lastair’s gro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deoff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rop residue fed to animals is not available for fields. If not fed to animals, manure fertilizer is not availabl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dder versus grain production: single purpose and dual purpos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Labor to cattle gives money to men, and may detract from household incom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ree grazing versus double-cropping in off seas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creased labor may fall to women, who already have a very full work da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ash flow to buy inpu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armers with small ruminants and catt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roved feed (farmers are more inclined to invest in forag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ize with quality stover (dual purpose food/fee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age legumes (dual purpose food/fee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 boundaries or steep 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ees for fodder (goats) and water reten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pier grass on bunds and erosion contr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armers with only small rumina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roved feed (farmers are more inclined to invest in forag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age legumes (dual purpose food/fee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 boundaries or steep 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ees for fodder (goats) and water reten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pier grass on bunds and erosion contr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utco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57200" y="1600200"/>
          <a:ext cx="8229600" cy="54910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utc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tors and Targ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terven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od secur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duce hungry period by 2 months; % of population that is food sec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reals varie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tr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duce child undernutrition by x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k protein; water harvesting for vegetable produ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der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control of household expenditures, % household worklo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ggs and milk consumption and sales; Trees for firewood; Herbicides reduce women’s lab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ees for water retention and fertility (N); manure for soil; erosion preven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verty redu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ll milk, vegetables, legumes, meat, surplus cereals, by-products (leathe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(hypothetical) si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ood soil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wo cropping seasons: small rains (barley has low disease incidence)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aize, wheat, and teff are comm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ood market access, including herbicide and fertiliz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ore cattle than small ruminant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here is an export market for small ruminants for meat (e.g., Dubai)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omestic meat market is reduced by fasting; Orthodox Christians fast 2 days/week and 2 months/year for Le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Vegetables as a high-value crop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an plant chickpea after maize for double-cropp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roundnuts are not suit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ouble cropping is done on non-light soils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Barley is followed by fava bean or lenti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fter wheat, plant fava bean or lenti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arts of site have problems with waterlogging during heavy rai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Wheat rust is prese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ed availability is a constraint for wheat, maize, and legumes (no private secto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igh migration rates to citi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opportunities – traditional productiv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rops that provide better feeds to produce more meat (fattening) and milk (need cold chain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enetic methods to improve livestock quality (selection within sheep and goat breed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ertilizer and seed choice adapted to rain and soil condi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igher planting density  and new varieties increase productivity per unit are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acilitate breeding of breeder seed, higher quality and vi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opportunities -- nutr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gumes for home consum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PM for home consumption improves child nutrition and reduces stun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er harvesting on light soils for vegetable production in off-sea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uit trees can be grown on far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opportunities – post-harvest/value addi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rmetic metal silos and plastic ba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stic bags to prevent pest los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opportunities – soil healt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idue management to allow adequate cover and use field for appropriate levels of graz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nt cover crop during dry season to keep down weeds (oats, vetch) and then use for fod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nters to enable no-till conservation agriculture and lower labor ne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age trees for soil moisture retention, compost, nitrogen fix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opportunities – labor/non-farm incom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ools to reduce women’s labor include herbicide, mechanical planting, diversification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erbicide use reduces weed pressure over subsequent years of us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mall threshe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Village-based agro-industries and job cre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ollective action for markets and inputs, storag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rees can provide on-farm firewood that obviate the need (for women) to walk for several hours to retrieve fu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vailable technolog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ust-resistant bread and Durum wheat varieties are available. They require herbicides and fertilizer for high yield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en legume varieties are available (fava bean, chick pea, lentil, field pea) for this si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ve maize varieties (one OPV) for highlands are available, plus one varieiy quality protein maize (QPM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nother hybrid maize produces tillers for fee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armer typology associated with household prioriti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Labor calenda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rage, fruit, and fertilizer tre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arly w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ed supply for legumes, wheat, maize varie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eding syst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rbicide and fertilizer supp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rove agronomic pract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08:41:52Z</dcterms:created>
  <dc:creator>Windows User</dc:creator>
  <dc:description/>
  <dc:language>en-US</dc:language>
  <cp:lastModifiedBy>PBallantyne</cp:lastModifiedBy>
  <dcterms:modified xsi:type="dcterms:W3CDTF">2012-02-01T12:40:36Z</dcterms:modified>
  <cp:revision>15</cp:revision>
  <dc:subject/>
  <dc:title>Integration Group</dc:title>
</cp:coreProperties>
</file>